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B1EB-ACA3-44B6-B84E-8D98D48F4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9E78-DF56-49EB-940E-0E8CEDE9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3EF9-F315-43CA-A74A-D2A66630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0CAE-4542-43B3-8BA2-444A2A084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2D545-906D-4C61-A4BD-31F69B43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523C9-D70A-4F20-9194-4A9073C9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89FC7-65D1-4362-BB9F-30CDEC8B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D27B6-C5EC-45F0-924A-DB6DF8A4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8DB23-85F9-4546-A19F-916C26F0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324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861F8-7E67-491D-8B18-863CAB3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8AF67-62A6-4F75-8F4E-6FC55B5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AE4A-CFA2-4CE7-825D-93BB677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782AA-A0EF-405A-AA20-71E0A13C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160DC-7B98-4213-921E-8B59032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87694-58E7-41DD-A7BD-2C072D1D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E5960-EACE-428B-9457-C596A0AE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17337-61EF-4480-984C-1BB5BE71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25DF-35FE-4003-9AC6-EB2DA900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61BA-714D-485F-8D1E-B646842C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683E-DFCC-4669-ADDE-0A4D5CAE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324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B154-BE14-4E53-A51C-8EE8CC0F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AC9C-F14D-4944-81DD-8AC0803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E5B5-372D-4D26-8477-0FAEAA09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4CF9-543D-4559-8985-A703DBE7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697-7863-4E2E-913E-B3CD00731F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77320" y="380880"/>
            <a:ext cx="106668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5220-AAC4-4A93-94D8-885012C906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cent Related Publications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ff Gray, Ted Bapty, Sandeep Neema, J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uck, “Handling Crosscutting Constraints in Domain-Specific Modeling,”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munications of the AC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ctober 2001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os Ledeczi, Arpad Bakay, Miklos Maroti, Peter Volgyesi, Greg Nordstrom, Jonathan Sprinkle, Gabor Karsai, “Composing Domain-Specific Design Environments,”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EEE Compu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November 2001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Related OOPSLA Events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tle: “GME: A Reflective Environment for Domain-Specific Modeling”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r: Akos Ledeczi, Institute for Software Integrated Systems (ISIS) - Vanderbilt University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: Tue/Wed – 11:15 am - 12:00 pm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: Convention Center Room 21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hop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: “Domain-Specific Visual Languages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poster is available for this worksh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oster #1 in Final Program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t workshop web site (position papers available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isis.vanderbilt.edu/oopsla2k1/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Related OOPSLA Events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mo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5 -  “ComposeJ: Aspect-Oriented Programming with Composition Filters and Java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6 – “AspectJ™: the Language and Support Tools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18 – “Hyper/J: Multi-Dimensional Separation of Concerns for Java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ops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6 – “Advanced Separation of Concerns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30 – “Generative Programming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9:39:13Z</dcterms:created>
  <dc:creator>Jeff Gray</dc:creator>
  <dc:description/>
  <dc:language>en-US</dc:language>
  <cp:lastModifiedBy>Jeff Gray</cp:lastModifiedBy>
  <cp:lastPrinted>2000-09-25T19:05:17Z</cp:lastPrinted>
  <dcterms:modified xsi:type="dcterms:W3CDTF">2001-10-08T20:55:45Z</dcterms:modified>
  <cp:revision>238</cp:revision>
  <dc:subject/>
  <dc:title>No Slide Title</dc:title>
</cp:coreProperties>
</file>