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256032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5B7-D557-41E0-8222-D7321001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560" y="1542096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376-2A1E-4312-AC0A-AFBFA5A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2EE-58A2-4311-8C07-614B7FBD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728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64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56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728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64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5E9-BBB6-4173-9A67-5216CCBC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7A3-9923-49FB-8404-2D42AE9F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C20-32B3-41C2-8408-D1C5C6A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CD0-CA9A-4D09-8C83-FD371FA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386-52A1-425F-B2BB-AB22DEFC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1560" y="2276280"/>
            <a:ext cx="43524360" cy="19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8F7-7561-4F11-894E-E7EFC8F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986-EB76-4EFF-BF58-6CDCA089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680-CF58-4F3C-ABB7-C4E6DAF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F79-21D5-450E-983C-8117C93C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77000"/>
          </a:bodyPr>
          <a:p>
            <a:pPr marL="1268640" indent="-1268640">
              <a:spcBef>
                <a:spcPts val="3849"/>
              </a:spcBef>
              <a:buClr>
                <a:srgbClr val="000000"/>
              </a:buClr>
              <a:buFont typeface="Helvetica"/>
              <a:buChar char="•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2747880" indent="-1056960">
              <a:spcBef>
                <a:spcPts val="3849"/>
              </a:spcBef>
              <a:buClr>
                <a:srgbClr val="000000"/>
              </a:buClr>
              <a:buFont typeface="Helvetica"/>
              <a:buChar char="–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4224240" indent="-843480">
              <a:spcBef>
                <a:spcPts val="3849"/>
              </a:spcBef>
              <a:buClr>
                <a:srgbClr val="000000"/>
              </a:buClr>
              <a:buFont typeface="Helvetica"/>
              <a:buChar char="•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5913720" indent="-844560">
              <a:spcBef>
                <a:spcPts val="3849"/>
              </a:spcBef>
              <a:buClr>
                <a:srgbClr val="000000"/>
              </a:buClr>
              <a:buFont typeface="Helvetica"/>
              <a:buChar char="–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560" y="23328360"/>
            <a:ext cx="1066788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5640" y="23328360"/>
            <a:ext cx="1621620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23328360"/>
            <a:ext cx="1066788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0920"/>
                <a:tab algn="l" pos="8782200"/>
              </a:tabLst>
            </a:pPr>
            <a:fld id="{C96F239D-9FBC-4BBB-B4D7-9348D451FD60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68280" y="0"/>
            <a:ext cx="27735120" cy="2936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Handling Crosscutting Constraints in Domain-Specific Model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e for Software Integrated Systems (ISIS) – Vanderbilt Un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isis.vanderbilt.e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658440" y="6161040"/>
            <a:ext cx="337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30640" y="3933720"/>
            <a:ext cx="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911680" y="4494240"/>
            <a:ext cx="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902520" y="457200"/>
            <a:ext cx="5303520" cy="1343160"/>
            <a:chOff x="45902520" y="457200"/>
            <a:chExt cx="5303520" cy="13431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5902520" y="457200"/>
              <a:ext cx="134280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7300760" y="457200"/>
              <a:ext cx="39052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10201320" y="19631160"/>
            <a:ext cx="6458040" cy="51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38120" y="3308400"/>
            <a:ext cx="14502960" cy="5773320"/>
            <a:chOff x="438120" y="3308400"/>
            <a:chExt cx="14502960" cy="5773320"/>
          </a:xfrm>
        </p:grpSpPr>
        <p:sp>
          <p:nvSpPr>
            <p:cNvPr id="50" name=""/>
            <p:cNvSpPr/>
            <p:nvPr/>
          </p:nvSpPr>
          <p:spPr>
            <a:xfrm>
              <a:off x="1149840" y="3926520"/>
              <a:ext cx="13791240" cy="5155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representation and analysis project is investigating the combination of Model Integrated Computing (MIC) and Aspect-Oriented Programming (AOP) composition technologies. In particular, the concepts of aspect-orientation will be applied at a higher level of abstraction - at the modeling level. An additional goal is to develop a framework for building domain-specific weavers. The specific goals of the project are to develo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project will help produce domain-specific and even application-specific modeling tools that will enable systems engineers to configure, analyze, and validate complex real-time embedded systems in a more intuitive mann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8120" y="3308400"/>
              <a:ext cx="5967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OJECT OBJECTIV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5560" y="5669280"/>
              <a:ext cx="12791160" cy="1776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domain-specific, graphical language that captures the functional design of real-time embedded system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weaving process that maps high-level invariant properties and system requirements to design constraints affecting specific model regions,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generation process that customizes components and composes real-time embedded system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71520" y="314280"/>
            <a:ext cx="5851440" cy="2470320"/>
            <a:chOff x="371520" y="314280"/>
            <a:chExt cx="5851440" cy="24703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86200" y="504720"/>
              <a:ext cx="20797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371520" y="314280"/>
              <a:ext cx="28576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0200" y="2052720"/>
              <a:ext cx="5792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work is supported by the DARPA Information Technology Office (DARPA/ITO), under the Program Composition for Embedded Systems (PCES) program, Contract Number: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3615-00-C-169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751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41280" y="9590040"/>
            <a:ext cx="21161520" cy="8096040"/>
            <a:chOff x="341280" y="9590040"/>
            <a:chExt cx="21161520" cy="8096040"/>
          </a:xfrm>
        </p:grpSpPr>
        <p:sp>
          <p:nvSpPr>
            <p:cNvPr id="58" name=""/>
            <p:cNvSpPr/>
            <p:nvPr/>
          </p:nvSpPr>
          <p:spPr>
            <a:xfrm>
              <a:off x="341280" y="9590040"/>
              <a:ext cx="115030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HALLENGES: CROSSCUTTING CONSTRAINTS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1560" y="10208160"/>
              <a:ext cx="20361240" cy="7477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3765320" y="12009960"/>
              <a:ext cx="7111440" cy="4376160"/>
              <a:chOff x="13765320" y="12009960"/>
              <a:chExt cx="7111440" cy="4376160"/>
            </a:xfrm>
          </p:grpSpPr>
          <p:sp>
            <p:nvSpPr>
              <p:cNvPr id="61" name=""/>
              <p:cNvSpPr/>
              <p:nvPr/>
            </p:nvSpPr>
            <p:spPr>
              <a:xfrm>
                <a:off x="16266960" y="12079080"/>
                <a:ext cx="630000" cy="62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952600" y="13127400"/>
                <a:ext cx="605880" cy="55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338080" y="1417392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115960" y="14058360"/>
                <a:ext cx="423360" cy="288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14663160" y="13597560"/>
                <a:ext cx="380520" cy="62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387480" y="13491000"/>
                <a:ext cx="0" cy="88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463800" y="13494600"/>
                <a:ext cx="507600" cy="82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268480" y="13127400"/>
                <a:ext cx="577800" cy="62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811280" y="12430080"/>
                <a:ext cx="63792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7242920" y="13703760"/>
                <a:ext cx="294840" cy="79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2920" y="13516920"/>
                <a:ext cx="1753920" cy="77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5450480" y="12488040"/>
                <a:ext cx="928440" cy="87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5813000" y="12707280"/>
                <a:ext cx="3160080" cy="595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7584560" y="13195080"/>
                <a:ext cx="1466640" cy="1288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9889640" y="13213080"/>
                <a:ext cx="229680" cy="90936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14242680" y="14455440"/>
                <a:ext cx="226800" cy="1117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5168240" y="15504120"/>
                <a:ext cx="765000" cy="1396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082560" y="14254560"/>
                <a:ext cx="477720" cy="389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800040" y="1417860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720760" y="12943800"/>
                <a:ext cx="458280" cy="318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38440" y="12009960"/>
                <a:ext cx="460080" cy="288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871760" y="14409000"/>
                <a:ext cx="604440" cy="56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7240" y="15458760"/>
                <a:ext cx="47772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984360" y="15310440"/>
                <a:ext cx="458280" cy="2721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16530120" y="14802120"/>
                <a:ext cx="456840" cy="72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330400" y="14827680"/>
                <a:ext cx="37800" cy="85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382960" y="14802120"/>
                <a:ext cx="543960" cy="78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002080" y="15537600"/>
                <a:ext cx="47880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854120" y="15309000"/>
                <a:ext cx="461880" cy="291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19560" y="1546020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638480" y="14225400"/>
                <a:ext cx="528120" cy="333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107000" y="12544200"/>
                <a:ext cx="1769760" cy="68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uct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600" spc="-1" strike="noStrike">
                    <a:solidFill>
                      <a:srgbClr val="ffffcc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33800" y="14211360"/>
                <a:ext cx="604800" cy="55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717840" y="1525896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448200" y="15062760"/>
                <a:ext cx="495000" cy="320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9043280" y="14668200"/>
                <a:ext cx="380880" cy="62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19767240" y="14673240"/>
                <a:ext cx="9360" cy="65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881720" y="14629680"/>
                <a:ext cx="507600" cy="78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464120" y="1533816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316520" y="15111360"/>
                <a:ext cx="495000" cy="291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183400" y="15261120"/>
                <a:ext cx="477360" cy="390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100520" y="14025600"/>
                <a:ext cx="598320" cy="333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36760" y="14000040"/>
                <a:ext cx="424800" cy="302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765320" y="15697440"/>
                <a:ext cx="1920600" cy="68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ext Sensi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600" spc="-1" strike="noStrike">
                    <a:solidFill>
                      <a:srgbClr val="ffffcc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592280" y="10956600"/>
              <a:ext cx="11661840" cy="6111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real-time system’s requirements, algorithms, resources, and behavior is captured as a “design-space,” representing a multitude of alternative system implementations.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vigation of the design space is assisted by the specification of design constraints as components within a set of hierarchical, multiple-view model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se constraints are scattered across the hierarchy of a mod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fore,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aints represent a type of crosscutting concer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ithin domain-specific model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nsequ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crosscutting nature makes it difficult to maintain and reason about the effect and purpose of each constraint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aging these distributed constraints becomes extremely difficult as system size increas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rimenting with different architectures, synchronization methods, network protocols, etc., becomes error-prone and labor intens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5717960" y="18008640"/>
            <a:ext cx="14812560" cy="6670440"/>
            <a:chOff x="15717960" y="18008640"/>
            <a:chExt cx="14812560" cy="6670440"/>
          </a:xfrm>
        </p:grpSpPr>
        <p:sp>
          <p:nvSpPr>
            <p:cNvPr id="107" name=""/>
            <p:cNvSpPr/>
            <p:nvPr/>
          </p:nvSpPr>
          <p:spPr>
            <a:xfrm>
              <a:off x="16482960" y="18621360"/>
              <a:ext cx="14047560" cy="6057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038280" y="19951200"/>
              <a:ext cx="6177960" cy="3814200"/>
              <a:chOff x="24038280" y="19951200"/>
              <a:chExt cx="6177960" cy="3814200"/>
            </a:xfrm>
          </p:grpSpPr>
          <p:sp>
            <p:nvSpPr>
              <p:cNvPr id="109" name=""/>
              <p:cNvSpPr/>
              <p:nvPr/>
            </p:nvSpPr>
            <p:spPr>
              <a:xfrm>
                <a:off x="27339840" y="20023920"/>
                <a:ext cx="1043280" cy="105804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0" y="234"/>
                    </a:moveTo>
                    <a:lnTo>
                      <a:pt x="0" y="0"/>
                    </a:lnTo>
                    <a:lnTo>
                      <a:pt x="1152" y="0"/>
                    </a:lnTo>
                    <a:lnTo>
                      <a:pt x="1153" y="896"/>
                    </a:lnTo>
                    <a:lnTo>
                      <a:pt x="1053" y="896"/>
                    </a:lnTo>
                    <a:lnTo>
                      <a:pt x="1049" y="904"/>
                    </a:lnTo>
                    <a:lnTo>
                      <a:pt x="1046" y="915"/>
                    </a:lnTo>
                    <a:lnTo>
                      <a:pt x="1046" y="924"/>
                    </a:lnTo>
                    <a:lnTo>
                      <a:pt x="1047" y="935"/>
                    </a:lnTo>
                    <a:lnTo>
                      <a:pt x="1051" y="949"/>
                    </a:lnTo>
                    <a:lnTo>
                      <a:pt x="1055" y="967"/>
                    </a:lnTo>
                    <a:lnTo>
                      <a:pt x="1059" y="979"/>
                    </a:lnTo>
                    <a:lnTo>
                      <a:pt x="1062" y="994"/>
                    </a:lnTo>
                    <a:lnTo>
                      <a:pt x="1064" y="1008"/>
                    </a:lnTo>
                    <a:lnTo>
                      <a:pt x="1064" y="1022"/>
                    </a:lnTo>
                    <a:lnTo>
                      <a:pt x="1062" y="1035"/>
                    </a:lnTo>
                    <a:lnTo>
                      <a:pt x="1059" y="1049"/>
                    </a:lnTo>
                    <a:lnTo>
                      <a:pt x="1054" y="1062"/>
                    </a:lnTo>
                    <a:lnTo>
                      <a:pt x="1046" y="1072"/>
                    </a:lnTo>
                    <a:lnTo>
                      <a:pt x="1035" y="1084"/>
                    </a:lnTo>
                    <a:lnTo>
                      <a:pt x="1024" y="1093"/>
                    </a:lnTo>
                    <a:lnTo>
                      <a:pt x="1014" y="1102"/>
                    </a:lnTo>
                    <a:lnTo>
                      <a:pt x="1002" y="1109"/>
                    </a:lnTo>
                    <a:lnTo>
                      <a:pt x="988" y="1114"/>
                    </a:lnTo>
                    <a:lnTo>
                      <a:pt x="971" y="1119"/>
                    </a:lnTo>
                    <a:lnTo>
                      <a:pt x="955" y="1121"/>
                    </a:lnTo>
                    <a:lnTo>
                      <a:pt x="941" y="1122"/>
                    </a:lnTo>
                    <a:lnTo>
                      <a:pt x="926" y="1122"/>
                    </a:lnTo>
                    <a:lnTo>
                      <a:pt x="912" y="1121"/>
                    </a:lnTo>
                    <a:lnTo>
                      <a:pt x="901" y="1119"/>
                    </a:lnTo>
                    <a:lnTo>
                      <a:pt x="888" y="1115"/>
                    </a:lnTo>
                    <a:lnTo>
                      <a:pt x="875" y="1111"/>
                    </a:lnTo>
                    <a:lnTo>
                      <a:pt x="865" y="1105"/>
                    </a:lnTo>
                    <a:lnTo>
                      <a:pt x="854" y="1097"/>
                    </a:lnTo>
                    <a:lnTo>
                      <a:pt x="844" y="1087"/>
                    </a:lnTo>
                    <a:lnTo>
                      <a:pt x="834" y="1076"/>
                    </a:lnTo>
                    <a:lnTo>
                      <a:pt x="825" y="1065"/>
                    </a:lnTo>
                    <a:lnTo>
                      <a:pt x="818" y="1053"/>
                    </a:lnTo>
                    <a:lnTo>
                      <a:pt x="813" y="1038"/>
                    </a:lnTo>
                    <a:lnTo>
                      <a:pt x="809" y="1021"/>
                    </a:lnTo>
                    <a:lnTo>
                      <a:pt x="809" y="1005"/>
                    </a:lnTo>
                    <a:lnTo>
                      <a:pt x="813" y="989"/>
                    </a:lnTo>
                    <a:lnTo>
                      <a:pt x="817" y="973"/>
                    </a:lnTo>
                    <a:lnTo>
                      <a:pt x="821" y="957"/>
                    </a:lnTo>
                    <a:lnTo>
                      <a:pt x="826" y="939"/>
                    </a:lnTo>
                    <a:lnTo>
                      <a:pt x="828" y="925"/>
                    </a:lnTo>
                    <a:lnTo>
                      <a:pt x="828" y="917"/>
                    </a:lnTo>
                    <a:lnTo>
                      <a:pt x="827" y="910"/>
                    </a:lnTo>
                    <a:lnTo>
                      <a:pt x="824" y="902"/>
                    </a:lnTo>
                    <a:lnTo>
                      <a:pt x="632" y="902"/>
                    </a:lnTo>
                    <a:lnTo>
                      <a:pt x="635" y="868"/>
                    </a:lnTo>
                    <a:lnTo>
                      <a:pt x="634" y="849"/>
                    </a:lnTo>
                    <a:lnTo>
                      <a:pt x="632" y="831"/>
                    </a:lnTo>
                    <a:lnTo>
                      <a:pt x="630" y="814"/>
                    </a:lnTo>
                    <a:lnTo>
                      <a:pt x="627" y="803"/>
                    </a:lnTo>
                    <a:lnTo>
                      <a:pt x="622" y="793"/>
                    </a:lnTo>
                    <a:lnTo>
                      <a:pt x="616" y="784"/>
                    </a:lnTo>
                    <a:lnTo>
                      <a:pt x="606" y="776"/>
                    </a:lnTo>
                    <a:lnTo>
                      <a:pt x="595" y="769"/>
                    </a:lnTo>
                    <a:lnTo>
                      <a:pt x="584" y="765"/>
                    </a:lnTo>
                    <a:lnTo>
                      <a:pt x="574" y="763"/>
                    </a:lnTo>
                    <a:lnTo>
                      <a:pt x="557" y="762"/>
                    </a:lnTo>
                    <a:lnTo>
                      <a:pt x="537" y="762"/>
                    </a:lnTo>
                    <a:lnTo>
                      <a:pt x="518" y="764"/>
                    </a:lnTo>
                    <a:lnTo>
                      <a:pt x="497" y="765"/>
                    </a:lnTo>
                    <a:lnTo>
                      <a:pt x="481" y="767"/>
                    </a:lnTo>
                    <a:lnTo>
                      <a:pt x="460" y="768"/>
                    </a:lnTo>
                    <a:lnTo>
                      <a:pt x="443" y="767"/>
                    </a:lnTo>
                    <a:lnTo>
                      <a:pt x="428" y="765"/>
                    </a:lnTo>
                    <a:lnTo>
                      <a:pt x="405" y="760"/>
                    </a:lnTo>
                    <a:lnTo>
                      <a:pt x="390" y="753"/>
                    </a:lnTo>
                    <a:lnTo>
                      <a:pt x="376" y="743"/>
                    </a:lnTo>
                    <a:lnTo>
                      <a:pt x="367" y="732"/>
                    </a:lnTo>
                    <a:lnTo>
                      <a:pt x="359" y="720"/>
                    </a:lnTo>
                    <a:lnTo>
                      <a:pt x="353" y="705"/>
                    </a:lnTo>
                    <a:lnTo>
                      <a:pt x="352" y="689"/>
                    </a:lnTo>
                    <a:lnTo>
                      <a:pt x="352" y="669"/>
                    </a:lnTo>
                    <a:lnTo>
                      <a:pt x="353" y="654"/>
                    </a:lnTo>
                    <a:lnTo>
                      <a:pt x="352" y="639"/>
                    </a:lnTo>
                    <a:lnTo>
                      <a:pt x="348" y="622"/>
                    </a:lnTo>
                    <a:lnTo>
                      <a:pt x="345" y="612"/>
                    </a:lnTo>
                    <a:lnTo>
                      <a:pt x="340" y="602"/>
                    </a:lnTo>
                    <a:lnTo>
                      <a:pt x="334" y="595"/>
                    </a:lnTo>
                    <a:lnTo>
                      <a:pt x="328" y="589"/>
                    </a:lnTo>
                    <a:lnTo>
                      <a:pt x="315" y="583"/>
                    </a:lnTo>
                    <a:lnTo>
                      <a:pt x="300" y="576"/>
                    </a:lnTo>
                    <a:lnTo>
                      <a:pt x="283" y="571"/>
                    </a:lnTo>
                    <a:lnTo>
                      <a:pt x="263" y="566"/>
                    </a:lnTo>
                    <a:lnTo>
                      <a:pt x="243" y="562"/>
                    </a:lnTo>
                    <a:lnTo>
                      <a:pt x="222" y="559"/>
                    </a:lnTo>
                    <a:lnTo>
                      <a:pt x="207" y="554"/>
                    </a:lnTo>
                    <a:lnTo>
                      <a:pt x="191" y="549"/>
                    </a:lnTo>
                    <a:lnTo>
                      <a:pt x="175" y="543"/>
                    </a:lnTo>
                    <a:lnTo>
                      <a:pt x="164" y="534"/>
                    </a:lnTo>
                    <a:lnTo>
                      <a:pt x="151" y="523"/>
                    </a:lnTo>
                    <a:lnTo>
                      <a:pt x="142" y="513"/>
                    </a:lnTo>
                    <a:lnTo>
                      <a:pt x="134" y="501"/>
                    </a:lnTo>
                    <a:lnTo>
                      <a:pt x="128" y="487"/>
                    </a:lnTo>
                    <a:lnTo>
                      <a:pt x="126" y="472"/>
                    </a:lnTo>
                    <a:lnTo>
                      <a:pt x="126" y="458"/>
                    </a:lnTo>
                    <a:lnTo>
                      <a:pt x="129" y="445"/>
                    </a:lnTo>
                    <a:lnTo>
                      <a:pt x="134" y="426"/>
                    </a:lnTo>
                    <a:lnTo>
                      <a:pt x="139" y="407"/>
                    </a:lnTo>
                    <a:lnTo>
                      <a:pt x="141" y="390"/>
                    </a:lnTo>
                    <a:lnTo>
                      <a:pt x="145" y="373"/>
                    </a:lnTo>
                    <a:lnTo>
                      <a:pt x="147" y="356"/>
                    </a:lnTo>
                    <a:lnTo>
                      <a:pt x="145" y="338"/>
                    </a:lnTo>
                    <a:lnTo>
                      <a:pt x="141" y="322"/>
                    </a:lnTo>
                    <a:lnTo>
                      <a:pt x="135" y="306"/>
                    </a:lnTo>
                    <a:lnTo>
                      <a:pt x="127" y="291"/>
                    </a:lnTo>
                    <a:lnTo>
                      <a:pt x="118" y="279"/>
                    </a:lnTo>
                    <a:lnTo>
                      <a:pt x="113" y="272"/>
                    </a:lnTo>
                    <a:lnTo>
                      <a:pt x="104" y="263"/>
                    </a:lnTo>
                    <a:lnTo>
                      <a:pt x="95" y="255"/>
                    </a:lnTo>
                    <a:lnTo>
                      <a:pt x="86" y="249"/>
                    </a:lnTo>
                    <a:lnTo>
                      <a:pt x="74" y="243"/>
                    </a:lnTo>
                    <a:lnTo>
                      <a:pt x="62" y="239"/>
                    </a:lnTo>
                    <a:lnTo>
                      <a:pt x="47" y="235"/>
                    </a:lnTo>
                    <a:lnTo>
                      <a:pt x="30" y="234"/>
                    </a:lnTo>
                    <a:lnTo>
                      <a:pt x="15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688880" y="20719440"/>
                <a:ext cx="1042920" cy="105624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1153" y="924"/>
                    </a:moveTo>
                    <a:lnTo>
                      <a:pt x="1153" y="1122"/>
                    </a:lnTo>
                    <a:lnTo>
                      <a:pt x="1" y="1122"/>
                    </a:lnTo>
                    <a:lnTo>
                      <a:pt x="0" y="226"/>
                    </a:lnTo>
                    <a:lnTo>
                      <a:pt x="100" y="226"/>
                    </a:lnTo>
                    <a:lnTo>
                      <a:pt x="104" y="218"/>
                    </a:lnTo>
                    <a:lnTo>
                      <a:pt x="107" y="207"/>
                    </a:lnTo>
                    <a:lnTo>
                      <a:pt x="107" y="198"/>
                    </a:lnTo>
                    <a:lnTo>
                      <a:pt x="106" y="187"/>
                    </a:lnTo>
                    <a:lnTo>
                      <a:pt x="102" y="173"/>
                    </a:lnTo>
                    <a:lnTo>
                      <a:pt x="98" y="155"/>
                    </a:lnTo>
                    <a:lnTo>
                      <a:pt x="94" y="143"/>
                    </a:lnTo>
                    <a:lnTo>
                      <a:pt x="90" y="128"/>
                    </a:lnTo>
                    <a:lnTo>
                      <a:pt x="89" y="114"/>
                    </a:lnTo>
                    <a:lnTo>
                      <a:pt x="89" y="100"/>
                    </a:lnTo>
                    <a:lnTo>
                      <a:pt x="90" y="87"/>
                    </a:lnTo>
                    <a:lnTo>
                      <a:pt x="94" y="73"/>
                    </a:lnTo>
                    <a:lnTo>
                      <a:pt x="99" y="60"/>
                    </a:lnTo>
                    <a:lnTo>
                      <a:pt x="107" y="50"/>
                    </a:lnTo>
                    <a:lnTo>
                      <a:pt x="118" y="38"/>
                    </a:lnTo>
                    <a:lnTo>
                      <a:pt x="128" y="29"/>
                    </a:lnTo>
                    <a:lnTo>
                      <a:pt x="139" y="20"/>
                    </a:lnTo>
                    <a:lnTo>
                      <a:pt x="151" y="13"/>
                    </a:lnTo>
                    <a:lnTo>
                      <a:pt x="165" y="7"/>
                    </a:lnTo>
                    <a:lnTo>
                      <a:pt x="181" y="3"/>
                    </a:lnTo>
                    <a:lnTo>
                      <a:pt x="198" y="1"/>
                    </a:lnTo>
                    <a:lnTo>
                      <a:pt x="212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2" y="3"/>
                    </a:lnTo>
                    <a:lnTo>
                      <a:pt x="265" y="7"/>
                    </a:lnTo>
                    <a:lnTo>
                      <a:pt x="278" y="11"/>
                    </a:lnTo>
                    <a:lnTo>
                      <a:pt x="288" y="17"/>
                    </a:lnTo>
                    <a:lnTo>
                      <a:pt x="299" y="25"/>
                    </a:lnTo>
                    <a:lnTo>
                      <a:pt x="309" y="35"/>
                    </a:lnTo>
                    <a:lnTo>
                      <a:pt x="319" y="46"/>
                    </a:lnTo>
                    <a:lnTo>
                      <a:pt x="328" y="57"/>
                    </a:lnTo>
                    <a:lnTo>
                      <a:pt x="335" y="69"/>
                    </a:lnTo>
                    <a:lnTo>
                      <a:pt x="340" y="84"/>
                    </a:lnTo>
                    <a:lnTo>
                      <a:pt x="344" y="101"/>
                    </a:lnTo>
                    <a:lnTo>
                      <a:pt x="344" y="117"/>
                    </a:lnTo>
                    <a:lnTo>
                      <a:pt x="340" y="133"/>
                    </a:lnTo>
                    <a:lnTo>
                      <a:pt x="336" y="149"/>
                    </a:lnTo>
                    <a:lnTo>
                      <a:pt x="332" y="165"/>
                    </a:lnTo>
                    <a:lnTo>
                      <a:pt x="327" y="183"/>
                    </a:lnTo>
                    <a:lnTo>
                      <a:pt x="324" y="197"/>
                    </a:lnTo>
                    <a:lnTo>
                      <a:pt x="324" y="205"/>
                    </a:lnTo>
                    <a:lnTo>
                      <a:pt x="326" y="212"/>
                    </a:lnTo>
                    <a:lnTo>
                      <a:pt x="329" y="220"/>
                    </a:lnTo>
                    <a:lnTo>
                      <a:pt x="520" y="220"/>
                    </a:lnTo>
                    <a:lnTo>
                      <a:pt x="516" y="257"/>
                    </a:lnTo>
                    <a:lnTo>
                      <a:pt x="515" y="279"/>
                    </a:lnTo>
                    <a:lnTo>
                      <a:pt x="516" y="297"/>
                    </a:lnTo>
                    <a:lnTo>
                      <a:pt x="517" y="314"/>
                    </a:lnTo>
                    <a:lnTo>
                      <a:pt x="519" y="332"/>
                    </a:lnTo>
                    <a:lnTo>
                      <a:pt x="522" y="350"/>
                    </a:lnTo>
                    <a:lnTo>
                      <a:pt x="528" y="362"/>
                    </a:lnTo>
                    <a:lnTo>
                      <a:pt x="535" y="372"/>
                    </a:lnTo>
                    <a:lnTo>
                      <a:pt x="544" y="381"/>
                    </a:lnTo>
                    <a:lnTo>
                      <a:pt x="556" y="388"/>
                    </a:lnTo>
                    <a:lnTo>
                      <a:pt x="569" y="393"/>
                    </a:lnTo>
                    <a:lnTo>
                      <a:pt x="582" y="395"/>
                    </a:lnTo>
                    <a:lnTo>
                      <a:pt x="596" y="396"/>
                    </a:lnTo>
                    <a:lnTo>
                      <a:pt x="612" y="396"/>
                    </a:lnTo>
                    <a:lnTo>
                      <a:pt x="629" y="394"/>
                    </a:lnTo>
                    <a:lnTo>
                      <a:pt x="641" y="393"/>
                    </a:lnTo>
                    <a:lnTo>
                      <a:pt x="659" y="391"/>
                    </a:lnTo>
                    <a:lnTo>
                      <a:pt x="677" y="389"/>
                    </a:lnTo>
                    <a:lnTo>
                      <a:pt x="697" y="389"/>
                    </a:lnTo>
                    <a:lnTo>
                      <a:pt x="714" y="391"/>
                    </a:lnTo>
                    <a:lnTo>
                      <a:pt x="731" y="394"/>
                    </a:lnTo>
                    <a:lnTo>
                      <a:pt x="748" y="400"/>
                    </a:lnTo>
                    <a:lnTo>
                      <a:pt x="762" y="406"/>
                    </a:lnTo>
                    <a:lnTo>
                      <a:pt x="776" y="416"/>
                    </a:lnTo>
                    <a:lnTo>
                      <a:pt x="785" y="427"/>
                    </a:lnTo>
                    <a:lnTo>
                      <a:pt x="793" y="440"/>
                    </a:lnTo>
                    <a:lnTo>
                      <a:pt x="798" y="454"/>
                    </a:lnTo>
                    <a:lnTo>
                      <a:pt x="800" y="468"/>
                    </a:lnTo>
                    <a:lnTo>
                      <a:pt x="798" y="484"/>
                    </a:lnTo>
                    <a:lnTo>
                      <a:pt x="797" y="500"/>
                    </a:lnTo>
                    <a:lnTo>
                      <a:pt x="798" y="516"/>
                    </a:lnTo>
                    <a:lnTo>
                      <a:pt x="800" y="530"/>
                    </a:lnTo>
                    <a:lnTo>
                      <a:pt x="805" y="543"/>
                    </a:lnTo>
                    <a:lnTo>
                      <a:pt x="811" y="556"/>
                    </a:lnTo>
                    <a:lnTo>
                      <a:pt x="819" y="565"/>
                    </a:lnTo>
                    <a:lnTo>
                      <a:pt x="831" y="574"/>
                    </a:lnTo>
                    <a:lnTo>
                      <a:pt x="847" y="580"/>
                    </a:lnTo>
                    <a:lnTo>
                      <a:pt x="864" y="585"/>
                    </a:lnTo>
                    <a:lnTo>
                      <a:pt x="878" y="589"/>
                    </a:lnTo>
                    <a:lnTo>
                      <a:pt x="895" y="593"/>
                    </a:lnTo>
                    <a:lnTo>
                      <a:pt x="915" y="597"/>
                    </a:lnTo>
                    <a:lnTo>
                      <a:pt x="932" y="600"/>
                    </a:lnTo>
                    <a:lnTo>
                      <a:pt x="949" y="605"/>
                    </a:lnTo>
                    <a:lnTo>
                      <a:pt x="963" y="610"/>
                    </a:lnTo>
                    <a:lnTo>
                      <a:pt x="977" y="616"/>
                    </a:lnTo>
                    <a:lnTo>
                      <a:pt x="988" y="624"/>
                    </a:lnTo>
                    <a:lnTo>
                      <a:pt x="997" y="632"/>
                    </a:lnTo>
                    <a:lnTo>
                      <a:pt x="1009" y="645"/>
                    </a:lnTo>
                    <a:lnTo>
                      <a:pt x="1016" y="657"/>
                    </a:lnTo>
                    <a:lnTo>
                      <a:pt x="1022" y="670"/>
                    </a:lnTo>
                    <a:lnTo>
                      <a:pt x="1025" y="688"/>
                    </a:lnTo>
                    <a:lnTo>
                      <a:pt x="1023" y="705"/>
                    </a:lnTo>
                    <a:lnTo>
                      <a:pt x="1020" y="720"/>
                    </a:lnTo>
                    <a:lnTo>
                      <a:pt x="1016" y="739"/>
                    </a:lnTo>
                    <a:lnTo>
                      <a:pt x="1011" y="760"/>
                    </a:lnTo>
                    <a:lnTo>
                      <a:pt x="1006" y="779"/>
                    </a:lnTo>
                    <a:lnTo>
                      <a:pt x="1004" y="795"/>
                    </a:lnTo>
                    <a:lnTo>
                      <a:pt x="1004" y="808"/>
                    </a:lnTo>
                    <a:lnTo>
                      <a:pt x="1007" y="827"/>
                    </a:lnTo>
                    <a:lnTo>
                      <a:pt x="1011" y="843"/>
                    </a:lnTo>
                    <a:lnTo>
                      <a:pt x="1017" y="855"/>
                    </a:lnTo>
                    <a:lnTo>
                      <a:pt x="1024" y="867"/>
                    </a:lnTo>
                    <a:lnTo>
                      <a:pt x="1034" y="880"/>
                    </a:lnTo>
                    <a:lnTo>
                      <a:pt x="1045" y="893"/>
                    </a:lnTo>
                    <a:lnTo>
                      <a:pt x="1058" y="904"/>
                    </a:lnTo>
                    <a:lnTo>
                      <a:pt x="1073" y="913"/>
                    </a:lnTo>
                    <a:lnTo>
                      <a:pt x="1087" y="918"/>
                    </a:lnTo>
                    <a:lnTo>
                      <a:pt x="1102" y="922"/>
                    </a:lnTo>
                    <a:lnTo>
                      <a:pt x="1117" y="924"/>
                    </a:lnTo>
                    <a:lnTo>
                      <a:pt x="1135" y="925"/>
                    </a:lnTo>
                    <a:lnTo>
                      <a:pt x="1153" y="92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688880" y="20041920"/>
                <a:ext cx="1047960" cy="88416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1158" y="234"/>
                    </a:moveTo>
                    <a:lnTo>
                      <a:pt x="1158" y="0"/>
                    </a:lnTo>
                    <a:lnTo>
                      <a:pt x="0" y="0"/>
                    </a:lnTo>
                    <a:lnTo>
                      <a:pt x="1" y="940"/>
                    </a:lnTo>
                    <a:lnTo>
                      <a:pt x="104" y="940"/>
                    </a:lnTo>
                    <a:lnTo>
                      <a:pt x="109" y="922"/>
                    </a:lnTo>
                    <a:lnTo>
                      <a:pt x="109" y="909"/>
                    </a:lnTo>
                    <a:lnTo>
                      <a:pt x="106" y="891"/>
                    </a:lnTo>
                    <a:lnTo>
                      <a:pt x="100" y="872"/>
                    </a:lnTo>
                    <a:lnTo>
                      <a:pt x="94" y="849"/>
                    </a:lnTo>
                    <a:lnTo>
                      <a:pt x="91" y="831"/>
                    </a:lnTo>
                    <a:lnTo>
                      <a:pt x="90" y="815"/>
                    </a:lnTo>
                    <a:lnTo>
                      <a:pt x="93" y="797"/>
                    </a:lnTo>
                    <a:lnTo>
                      <a:pt x="98" y="780"/>
                    </a:lnTo>
                    <a:lnTo>
                      <a:pt x="109" y="763"/>
                    </a:lnTo>
                    <a:lnTo>
                      <a:pt x="122" y="750"/>
                    </a:lnTo>
                    <a:lnTo>
                      <a:pt x="136" y="737"/>
                    </a:lnTo>
                    <a:lnTo>
                      <a:pt x="152" y="728"/>
                    </a:lnTo>
                    <a:lnTo>
                      <a:pt x="171" y="720"/>
                    </a:lnTo>
                    <a:lnTo>
                      <a:pt x="188" y="717"/>
                    </a:lnTo>
                    <a:lnTo>
                      <a:pt x="212" y="716"/>
                    </a:lnTo>
                    <a:lnTo>
                      <a:pt x="240" y="718"/>
                    </a:lnTo>
                    <a:lnTo>
                      <a:pt x="258" y="720"/>
                    </a:lnTo>
                    <a:lnTo>
                      <a:pt x="274" y="725"/>
                    </a:lnTo>
                    <a:lnTo>
                      <a:pt x="289" y="734"/>
                    </a:lnTo>
                    <a:lnTo>
                      <a:pt x="308" y="749"/>
                    </a:lnTo>
                    <a:lnTo>
                      <a:pt x="320" y="763"/>
                    </a:lnTo>
                    <a:lnTo>
                      <a:pt x="331" y="778"/>
                    </a:lnTo>
                    <a:lnTo>
                      <a:pt x="337" y="794"/>
                    </a:lnTo>
                    <a:lnTo>
                      <a:pt x="341" y="809"/>
                    </a:lnTo>
                    <a:lnTo>
                      <a:pt x="341" y="826"/>
                    </a:lnTo>
                    <a:lnTo>
                      <a:pt x="339" y="843"/>
                    </a:lnTo>
                    <a:lnTo>
                      <a:pt x="335" y="859"/>
                    </a:lnTo>
                    <a:lnTo>
                      <a:pt x="331" y="874"/>
                    </a:lnTo>
                    <a:lnTo>
                      <a:pt x="326" y="890"/>
                    </a:lnTo>
                    <a:lnTo>
                      <a:pt x="323" y="906"/>
                    </a:lnTo>
                    <a:lnTo>
                      <a:pt x="323" y="920"/>
                    </a:lnTo>
                    <a:lnTo>
                      <a:pt x="327" y="936"/>
                    </a:lnTo>
                    <a:lnTo>
                      <a:pt x="521" y="936"/>
                    </a:lnTo>
                    <a:lnTo>
                      <a:pt x="519" y="903"/>
                    </a:lnTo>
                    <a:lnTo>
                      <a:pt x="521" y="879"/>
                    </a:lnTo>
                    <a:lnTo>
                      <a:pt x="521" y="861"/>
                    </a:lnTo>
                    <a:lnTo>
                      <a:pt x="522" y="844"/>
                    </a:lnTo>
                    <a:lnTo>
                      <a:pt x="524" y="826"/>
                    </a:lnTo>
                    <a:lnTo>
                      <a:pt x="528" y="808"/>
                    </a:lnTo>
                    <a:lnTo>
                      <a:pt x="533" y="796"/>
                    </a:lnTo>
                    <a:lnTo>
                      <a:pt x="540" y="785"/>
                    </a:lnTo>
                    <a:lnTo>
                      <a:pt x="550" y="776"/>
                    </a:lnTo>
                    <a:lnTo>
                      <a:pt x="561" y="769"/>
                    </a:lnTo>
                    <a:lnTo>
                      <a:pt x="574" y="765"/>
                    </a:lnTo>
                    <a:lnTo>
                      <a:pt x="588" y="763"/>
                    </a:lnTo>
                    <a:lnTo>
                      <a:pt x="601" y="762"/>
                    </a:lnTo>
                    <a:lnTo>
                      <a:pt x="618" y="762"/>
                    </a:lnTo>
                    <a:lnTo>
                      <a:pt x="634" y="763"/>
                    </a:lnTo>
                    <a:lnTo>
                      <a:pt x="647" y="765"/>
                    </a:lnTo>
                    <a:lnTo>
                      <a:pt x="664" y="766"/>
                    </a:lnTo>
                    <a:lnTo>
                      <a:pt x="682" y="768"/>
                    </a:lnTo>
                    <a:lnTo>
                      <a:pt x="702" y="768"/>
                    </a:lnTo>
                    <a:lnTo>
                      <a:pt x="719" y="766"/>
                    </a:lnTo>
                    <a:lnTo>
                      <a:pt x="736" y="763"/>
                    </a:lnTo>
                    <a:lnTo>
                      <a:pt x="754" y="759"/>
                    </a:lnTo>
                    <a:lnTo>
                      <a:pt x="767" y="752"/>
                    </a:lnTo>
                    <a:lnTo>
                      <a:pt x="781" y="743"/>
                    </a:lnTo>
                    <a:lnTo>
                      <a:pt x="790" y="731"/>
                    </a:lnTo>
                    <a:lnTo>
                      <a:pt x="799" y="718"/>
                    </a:lnTo>
                    <a:lnTo>
                      <a:pt x="803" y="705"/>
                    </a:lnTo>
                    <a:lnTo>
                      <a:pt x="805" y="690"/>
                    </a:lnTo>
                    <a:lnTo>
                      <a:pt x="803" y="675"/>
                    </a:lnTo>
                    <a:lnTo>
                      <a:pt x="802" y="659"/>
                    </a:lnTo>
                    <a:lnTo>
                      <a:pt x="803" y="642"/>
                    </a:lnTo>
                    <a:lnTo>
                      <a:pt x="806" y="629"/>
                    </a:lnTo>
                    <a:lnTo>
                      <a:pt x="810" y="615"/>
                    </a:lnTo>
                    <a:lnTo>
                      <a:pt x="816" y="602"/>
                    </a:lnTo>
                    <a:lnTo>
                      <a:pt x="824" y="593"/>
                    </a:lnTo>
                    <a:lnTo>
                      <a:pt x="837" y="584"/>
                    </a:lnTo>
                    <a:lnTo>
                      <a:pt x="853" y="578"/>
                    </a:lnTo>
                    <a:lnTo>
                      <a:pt x="869" y="573"/>
                    </a:lnTo>
                    <a:lnTo>
                      <a:pt x="884" y="569"/>
                    </a:lnTo>
                    <a:lnTo>
                      <a:pt x="900" y="565"/>
                    </a:lnTo>
                    <a:lnTo>
                      <a:pt x="921" y="561"/>
                    </a:lnTo>
                    <a:lnTo>
                      <a:pt x="937" y="558"/>
                    </a:lnTo>
                    <a:lnTo>
                      <a:pt x="954" y="553"/>
                    </a:lnTo>
                    <a:lnTo>
                      <a:pt x="968" y="548"/>
                    </a:lnTo>
                    <a:lnTo>
                      <a:pt x="982" y="542"/>
                    </a:lnTo>
                    <a:lnTo>
                      <a:pt x="993" y="534"/>
                    </a:lnTo>
                    <a:lnTo>
                      <a:pt x="1003" y="526"/>
                    </a:lnTo>
                    <a:lnTo>
                      <a:pt x="1014" y="513"/>
                    </a:lnTo>
                    <a:lnTo>
                      <a:pt x="1021" y="501"/>
                    </a:lnTo>
                    <a:lnTo>
                      <a:pt x="1027" y="487"/>
                    </a:lnTo>
                    <a:lnTo>
                      <a:pt x="1030" y="469"/>
                    </a:lnTo>
                    <a:lnTo>
                      <a:pt x="1028" y="454"/>
                    </a:lnTo>
                    <a:lnTo>
                      <a:pt x="1026" y="438"/>
                    </a:lnTo>
                    <a:lnTo>
                      <a:pt x="1021" y="419"/>
                    </a:lnTo>
                    <a:lnTo>
                      <a:pt x="1016" y="398"/>
                    </a:lnTo>
                    <a:lnTo>
                      <a:pt x="1011" y="379"/>
                    </a:lnTo>
                    <a:lnTo>
                      <a:pt x="1010" y="364"/>
                    </a:lnTo>
                    <a:lnTo>
                      <a:pt x="1010" y="350"/>
                    </a:lnTo>
                    <a:lnTo>
                      <a:pt x="1012" y="331"/>
                    </a:lnTo>
                    <a:lnTo>
                      <a:pt x="1017" y="315"/>
                    </a:lnTo>
                    <a:lnTo>
                      <a:pt x="1022" y="303"/>
                    </a:lnTo>
                    <a:lnTo>
                      <a:pt x="1029" y="291"/>
                    </a:lnTo>
                    <a:lnTo>
                      <a:pt x="1039" y="278"/>
                    </a:lnTo>
                    <a:lnTo>
                      <a:pt x="1050" y="265"/>
                    </a:lnTo>
                    <a:lnTo>
                      <a:pt x="1064" y="254"/>
                    </a:lnTo>
                    <a:lnTo>
                      <a:pt x="1079" y="245"/>
                    </a:lnTo>
                    <a:lnTo>
                      <a:pt x="1093" y="240"/>
                    </a:lnTo>
                    <a:lnTo>
                      <a:pt x="1107" y="236"/>
                    </a:lnTo>
                    <a:lnTo>
                      <a:pt x="1122" y="234"/>
                    </a:lnTo>
                    <a:lnTo>
                      <a:pt x="1140" y="234"/>
                    </a:lnTo>
                    <a:lnTo>
                      <a:pt x="1158" y="23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426880" y="20267280"/>
                <a:ext cx="1162440" cy="132480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339840" y="20855160"/>
                <a:ext cx="1047960" cy="88560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0" y="743"/>
                    </a:moveTo>
                    <a:lnTo>
                      <a:pt x="0" y="940"/>
                    </a:lnTo>
                    <a:lnTo>
                      <a:pt x="1158" y="940"/>
                    </a:lnTo>
                    <a:lnTo>
                      <a:pt x="1157" y="0"/>
                    </a:lnTo>
                    <a:lnTo>
                      <a:pt x="1054" y="0"/>
                    </a:lnTo>
                    <a:lnTo>
                      <a:pt x="1049" y="18"/>
                    </a:lnTo>
                    <a:lnTo>
                      <a:pt x="1049" y="31"/>
                    </a:lnTo>
                    <a:lnTo>
                      <a:pt x="1052" y="49"/>
                    </a:lnTo>
                    <a:lnTo>
                      <a:pt x="1058" y="68"/>
                    </a:lnTo>
                    <a:lnTo>
                      <a:pt x="1064" y="91"/>
                    </a:lnTo>
                    <a:lnTo>
                      <a:pt x="1067" y="109"/>
                    </a:lnTo>
                    <a:lnTo>
                      <a:pt x="1067" y="125"/>
                    </a:lnTo>
                    <a:lnTo>
                      <a:pt x="1065" y="143"/>
                    </a:lnTo>
                    <a:lnTo>
                      <a:pt x="1060" y="160"/>
                    </a:lnTo>
                    <a:lnTo>
                      <a:pt x="1049" y="176"/>
                    </a:lnTo>
                    <a:lnTo>
                      <a:pt x="1036" y="190"/>
                    </a:lnTo>
                    <a:lnTo>
                      <a:pt x="1022" y="203"/>
                    </a:lnTo>
                    <a:lnTo>
                      <a:pt x="1006" y="212"/>
                    </a:lnTo>
                    <a:lnTo>
                      <a:pt x="987" y="219"/>
                    </a:lnTo>
                    <a:lnTo>
                      <a:pt x="970" y="223"/>
                    </a:lnTo>
                    <a:lnTo>
                      <a:pt x="946" y="224"/>
                    </a:lnTo>
                    <a:lnTo>
                      <a:pt x="918" y="222"/>
                    </a:lnTo>
                    <a:lnTo>
                      <a:pt x="900" y="219"/>
                    </a:lnTo>
                    <a:lnTo>
                      <a:pt x="884" y="215"/>
                    </a:lnTo>
                    <a:lnTo>
                      <a:pt x="869" y="206"/>
                    </a:lnTo>
                    <a:lnTo>
                      <a:pt x="850" y="191"/>
                    </a:lnTo>
                    <a:lnTo>
                      <a:pt x="838" y="177"/>
                    </a:lnTo>
                    <a:lnTo>
                      <a:pt x="827" y="162"/>
                    </a:lnTo>
                    <a:lnTo>
                      <a:pt x="821" y="146"/>
                    </a:lnTo>
                    <a:lnTo>
                      <a:pt x="817" y="131"/>
                    </a:lnTo>
                    <a:lnTo>
                      <a:pt x="817" y="114"/>
                    </a:lnTo>
                    <a:lnTo>
                      <a:pt x="819" y="97"/>
                    </a:lnTo>
                    <a:lnTo>
                      <a:pt x="823" y="81"/>
                    </a:lnTo>
                    <a:lnTo>
                      <a:pt x="827" y="66"/>
                    </a:lnTo>
                    <a:lnTo>
                      <a:pt x="832" y="50"/>
                    </a:lnTo>
                    <a:lnTo>
                      <a:pt x="835" y="34"/>
                    </a:lnTo>
                    <a:lnTo>
                      <a:pt x="835" y="20"/>
                    </a:lnTo>
                    <a:lnTo>
                      <a:pt x="831" y="4"/>
                    </a:lnTo>
                    <a:lnTo>
                      <a:pt x="637" y="4"/>
                    </a:lnTo>
                    <a:lnTo>
                      <a:pt x="639" y="37"/>
                    </a:lnTo>
                    <a:lnTo>
                      <a:pt x="637" y="60"/>
                    </a:lnTo>
                    <a:lnTo>
                      <a:pt x="636" y="79"/>
                    </a:lnTo>
                    <a:lnTo>
                      <a:pt x="636" y="96"/>
                    </a:lnTo>
                    <a:lnTo>
                      <a:pt x="634" y="114"/>
                    </a:lnTo>
                    <a:lnTo>
                      <a:pt x="630" y="132"/>
                    </a:lnTo>
                    <a:lnTo>
                      <a:pt x="625" y="144"/>
                    </a:lnTo>
                    <a:lnTo>
                      <a:pt x="618" y="155"/>
                    </a:lnTo>
                    <a:lnTo>
                      <a:pt x="608" y="164"/>
                    </a:lnTo>
                    <a:lnTo>
                      <a:pt x="597" y="171"/>
                    </a:lnTo>
                    <a:lnTo>
                      <a:pt x="584" y="175"/>
                    </a:lnTo>
                    <a:lnTo>
                      <a:pt x="570" y="177"/>
                    </a:lnTo>
                    <a:lnTo>
                      <a:pt x="557" y="178"/>
                    </a:lnTo>
                    <a:lnTo>
                      <a:pt x="540" y="178"/>
                    </a:lnTo>
                    <a:lnTo>
                      <a:pt x="524" y="176"/>
                    </a:lnTo>
                    <a:lnTo>
                      <a:pt x="511" y="175"/>
                    </a:lnTo>
                    <a:lnTo>
                      <a:pt x="494" y="174"/>
                    </a:lnTo>
                    <a:lnTo>
                      <a:pt x="476" y="172"/>
                    </a:lnTo>
                    <a:lnTo>
                      <a:pt x="456" y="172"/>
                    </a:lnTo>
                    <a:lnTo>
                      <a:pt x="439" y="174"/>
                    </a:lnTo>
                    <a:lnTo>
                      <a:pt x="422" y="176"/>
                    </a:lnTo>
                    <a:lnTo>
                      <a:pt x="404" y="181"/>
                    </a:lnTo>
                    <a:lnTo>
                      <a:pt x="391" y="188"/>
                    </a:lnTo>
                    <a:lnTo>
                      <a:pt x="377" y="197"/>
                    </a:lnTo>
                    <a:lnTo>
                      <a:pt x="368" y="209"/>
                    </a:lnTo>
                    <a:lnTo>
                      <a:pt x="359" y="222"/>
                    </a:lnTo>
                    <a:lnTo>
                      <a:pt x="355" y="235"/>
                    </a:lnTo>
                    <a:lnTo>
                      <a:pt x="353" y="250"/>
                    </a:lnTo>
                    <a:lnTo>
                      <a:pt x="355" y="265"/>
                    </a:lnTo>
                    <a:lnTo>
                      <a:pt x="356" y="281"/>
                    </a:lnTo>
                    <a:lnTo>
                      <a:pt x="355" y="298"/>
                    </a:lnTo>
                    <a:lnTo>
                      <a:pt x="352" y="311"/>
                    </a:lnTo>
                    <a:lnTo>
                      <a:pt x="348" y="325"/>
                    </a:lnTo>
                    <a:lnTo>
                      <a:pt x="342" y="338"/>
                    </a:lnTo>
                    <a:lnTo>
                      <a:pt x="334" y="347"/>
                    </a:lnTo>
                    <a:lnTo>
                      <a:pt x="321" y="356"/>
                    </a:lnTo>
                    <a:lnTo>
                      <a:pt x="305" y="362"/>
                    </a:lnTo>
                    <a:lnTo>
                      <a:pt x="289" y="367"/>
                    </a:lnTo>
                    <a:lnTo>
                      <a:pt x="274" y="371"/>
                    </a:lnTo>
                    <a:lnTo>
                      <a:pt x="258" y="375"/>
                    </a:lnTo>
                    <a:lnTo>
                      <a:pt x="237" y="379"/>
                    </a:lnTo>
                    <a:lnTo>
                      <a:pt x="221" y="382"/>
                    </a:lnTo>
                    <a:lnTo>
                      <a:pt x="204" y="387"/>
                    </a:lnTo>
                    <a:lnTo>
                      <a:pt x="190" y="392"/>
                    </a:lnTo>
                    <a:lnTo>
                      <a:pt x="176" y="398"/>
                    </a:lnTo>
                    <a:lnTo>
                      <a:pt x="165" y="406"/>
                    </a:lnTo>
                    <a:lnTo>
                      <a:pt x="155" y="414"/>
                    </a:lnTo>
                    <a:lnTo>
                      <a:pt x="144" y="427"/>
                    </a:lnTo>
                    <a:lnTo>
                      <a:pt x="137" y="439"/>
                    </a:lnTo>
                    <a:lnTo>
                      <a:pt x="131" y="453"/>
                    </a:lnTo>
                    <a:lnTo>
                      <a:pt x="128" y="470"/>
                    </a:lnTo>
                    <a:lnTo>
                      <a:pt x="130" y="486"/>
                    </a:lnTo>
                    <a:lnTo>
                      <a:pt x="132" y="502"/>
                    </a:lnTo>
                    <a:lnTo>
                      <a:pt x="137" y="521"/>
                    </a:lnTo>
                    <a:lnTo>
                      <a:pt x="142" y="542"/>
                    </a:lnTo>
                    <a:lnTo>
                      <a:pt x="146" y="561"/>
                    </a:lnTo>
                    <a:lnTo>
                      <a:pt x="148" y="576"/>
                    </a:lnTo>
                    <a:lnTo>
                      <a:pt x="148" y="590"/>
                    </a:lnTo>
                    <a:lnTo>
                      <a:pt x="146" y="609"/>
                    </a:lnTo>
                    <a:lnTo>
                      <a:pt x="141" y="625"/>
                    </a:lnTo>
                    <a:lnTo>
                      <a:pt x="137" y="639"/>
                    </a:lnTo>
                    <a:lnTo>
                      <a:pt x="131" y="652"/>
                    </a:lnTo>
                    <a:lnTo>
                      <a:pt x="123" y="669"/>
                    </a:lnTo>
                    <a:lnTo>
                      <a:pt x="112" y="688"/>
                    </a:lnTo>
                    <a:lnTo>
                      <a:pt x="100" y="702"/>
                    </a:lnTo>
                    <a:lnTo>
                      <a:pt x="88" y="713"/>
                    </a:lnTo>
                    <a:lnTo>
                      <a:pt x="77" y="723"/>
                    </a:lnTo>
                    <a:lnTo>
                      <a:pt x="65" y="731"/>
                    </a:lnTo>
                    <a:lnTo>
                      <a:pt x="53" y="736"/>
                    </a:lnTo>
                    <a:lnTo>
                      <a:pt x="36" y="740"/>
                    </a:lnTo>
                    <a:lnTo>
                      <a:pt x="17" y="743"/>
                    </a:lnTo>
                    <a:lnTo>
                      <a:pt x="0" y="743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332560" y="22392000"/>
                <a:ext cx="1136880" cy="983160"/>
              </a:xfrm>
              <a:prstGeom prst="cube">
                <a:avLst>
                  <a:gd name="adj" fmla="val 25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ateg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de Gener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 rot="5400000">
                <a:off x="25302240" y="20739240"/>
                <a:ext cx="1316520" cy="282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Arial Black"/>
                  </a:rPr>
                  <a:t>XML Parser</a:t>
                </a:r>
                <a:endParaRPr b="0" lang="en-US" sz="2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5400000">
                <a:off x="27418320" y="20795760"/>
                <a:ext cx="1389240" cy="243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Arial Black"/>
                  </a:rPr>
                  <a:t>Aspect Parser</a:t>
                </a:r>
                <a:endPara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29680" y="20664360"/>
                <a:ext cx="1348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trategies (C++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600480" y="22772880"/>
                <a:ext cx="556200" cy="288000"/>
              </a:xfrm>
              <a:prstGeom prst="leftArrow">
                <a:avLst>
                  <a:gd name="adj1" fmla="val 50000"/>
                  <a:gd name="adj2" fmla="val 48281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999360" y="23458320"/>
                <a:ext cx="183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rategy Specif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044800" y="20625120"/>
                <a:ext cx="117144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spe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038280" y="20752560"/>
                <a:ext cx="132372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Model Hierarch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124040" y="20946240"/>
                <a:ext cx="4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602840" y="19951200"/>
                <a:ext cx="2865960" cy="189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8556280" y="20899800"/>
                <a:ext cx="4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862480" y="21623760"/>
                <a:ext cx="276480" cy="579240"/>
              </a:xfrm>
              <a:prstGeom prst="upArrow">
                <a:avLst>
                  <a:gd name="adj1" fmla="val 50000"/>
                  <a:gd name="adj2" fmla="val 523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252440" y="22557600"/>
                <a:ext cx="1345320" cy="77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ApplyConstraint(constraintName : string, expression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addAtom("OCLConstraint", "Constraint", constraintName).addAttribute("Expression", expression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RemoveConstraint(constraintName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findAtom(constraintName).removeChild(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ReplaceConstraint(constraintName : string, expression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RemoveConstraint(constraintName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ApplyConstraint(constraintName, expression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5717960" y="18008640"/>
              <a:ext cx="7879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META-WEAVER FRAMEWORK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19840" y="19182960"/>
              <a:ext cx="7074720" cy="5002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reating New Wea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ch specific GME metamodeling paradigm introduces different types of modeling elements, syntax, and semantics. Therefore, different weavers are needed for different paradigm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used to aid in the rapid construction of new domain-specific weavers. ECL constraints can succinctly capture the specification of these strateg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code generator translates the strategies into C++ code that is then compiled within the weaver framework. Each domain can then be considered as being componetized within the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5400" y="17988120"/>
            <a:ext cx="14592240" cy="6746760"/>
            <a:chOff x="995400" y="17988120"/>
            <a:chExt cx="14592240" cy="6746760"/>
          </a:xfrm>
        </p:grpSpPr>
        <p:sp>
          <p:nvSpPr>
            <p:cNvPr id="130" name=""/>
            <p:cNvSpPr/>
            <p:nvPr/>
          </p:nvSpPr>
          <p:spPr>
            <a:xfrm>
              <a:off x="1155600" y="18608760"/>
              <a:ext cx="14432040" cy="6126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5400" y="17988120"/>
              <a:ext cx="95360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EMBEDDED CONSTRAINT LANGUAGE (ECL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53520" y="19345320"/>
              <a:ext cx="6894360" cy="5248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perations on Model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ditional OCL has been strictly a declarative query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uses require an imperative procedural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ition of side effects into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ddAtom(…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findAtom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ddAttribute(…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findAttribute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removeNode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ort for recu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ining of strategies (procedure call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lined C++ co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9160" y="19291320"/>
              <a:ext cx="6894360" cy="5313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roperties of E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L is an extension of the Object Constraint Language (O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ithmetic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gt;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ical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x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mpli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f/then/e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operator 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, Property operator 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rations on collectio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size(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: inte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orAl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exis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col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780360" y="9615600"/>
            <a:ext cx="28389240" cy="7968960"/>
            <a:chOff x="21780360" y="9615600"/>
            <a:chExt cx="28389240" cy="7968960"/>
          </a:xfrm>
        </p:grpSpPr>
        <p:sp>
          <p:nvSpPr>
            <p:cNvPr id="135" name=""/>
            <p:cNvSpPr/>
            <p:nvPr/>
          </p:nvSpPr>
          <p:spPr>
            <a:xfrm>
              <a:off x="22717080" y="10212480"/>
              <a:ext cx="27452520" cy="7372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5817400" y="14644800"/>
              <a:ext cx="6545520" cy="2705040"/>
              <a:chOff x="25817400" y="14644800"/>
              <a:chExt cx="6545520" cy="270504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7851040" y="14644800"/>
              <a:ext cx="1468440" cy="1068480"/>
            </p:xfrm>
            <a:graphic>
              <a:graphicData uri="http://schemas.openxmlformats.org/presentationml/2006/ole">
                <p:oleObj progId="Word.Document.12" r:id="rId6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7851040" y="14644800"/>
                        <a:ext cx="1468440" cy="106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>
                <a:off x="28151280" y="16916760"/>
                <a:ext cx="803160" cy="280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constraint FOOB2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// apply a specific constraint to "B2" only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in Structural models("ProcessingCompound")-&gt;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select(p | p.name() == "B*")-&gt;PowerStrategy(1, 100);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246320" y="16292520"/>
                <a:ext cx="6573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?xml version="1.0" encoding="UTF-8"?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!DOCTYPE project SYSTEM "mga.dtd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project guid="{00000000-0000-0000-0000-000000000000}" cdate="Thu Nov 30 14:15:40 2000" mdate="Thu Nov 30 14:15:40 2000" metaguid="{00000000-0000-0000-0000-000000000000}" metaname="PCES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name&gt;bit1&lt;/nam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comment&gt;&lt;/comment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author&gt;&lt;/autho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folder 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32160" y="15756120"/>
                <a:ext cx="192240" cy="488880"/>
              </a:xfrm>
              <a:prstGeom prst="downArrow">
                <a:avLst>
                  <a:gd name="adj1" fmla="val 50000"/>
                  <a:gd name="adj2" fmla="val 635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29835360" y="16283160"/>
              <a:ext cx="898560" cy="1066680"/>
            </p:xfrm>
            <a:graphic>
              <a:graphicData uri="http://schemas.openxmlformats.org/presentationml/2006/ole">
                <p:oleObj progId="Word.Document.12" r:id="rId8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9835360" y="16283160"/>
                        <a:ext cx="89856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4" name=""/>
              <p:cNvSpPr/>
              <p:nvPr/>
            </p:nvSpPr>
            <p:spPr>
              <a:xfrm rot="10800000">
                <a:off x="30206520" y="15587640"/>
                <a:ext cx="182520" cy="603000"/>
              </a:xfrm>
              <a:prstGeom prst="downArrow">
                <a:avLst>
                  <a:gd name="adj1" fmla="val 50000"/>
                  <a:gd name="adj2" fmla="val 8259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29204280" y="16282080"/>
                <a:ext cx="187560" cy="500040"/>
              </a:xfrm>
              <a:prstGeom prst="downArrow">
                <a:avLst>
                  <a:gd name="adj1" fmla="val 50000"/>
                  <a:gd name="adj2" fmla="val 6665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29204280" y="16830000"/>
                <a:ext cx="187200" cy="500040"/>
              </a:xfrm>
              <a:prstGeom prst="downArrow">
                <a:avLst>
                  <a:gd name="adj1" fmla="val 50000"/>
                  <a:gd name="adj2" fmla="val 6677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400000">
                <a:off x="29534040" y="14975640"/>
                <a:ext cx="187200" cy="500040"/>
              </a:xfrm>
              <a:prstGeom prst="downArrow">
                <a:avLst>
                  <a:gd name="adj1" fmla="val 50000"/>
                  <a:gd name="adj2" fmla="val 6677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978280" y="15026040"/>
                <a:ext cx="6573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?xml version="1.0" encoding="UTF-8"?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!DOCTYPE project SYSTEM "mga.dtd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project guid="{00000000-0000-0000-0000-000000000000}" cdate="Thu Nov 30 14:15:40 2000" mdate="Thu Nov 30 14:15:40 2000" metaguid="{00000000-0000-0000-0000-000000000000}" metaname="PCES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name&gt;bit1&lt;/nam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comment&gt;&lt;/comment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author&gt;&lt;/autho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817400" y="14929200"/>
                <a:ext cx="194148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 Graphical Modeling Environ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47880" y="16375320"/>
                <a:ext cx="10094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O.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679600" y="16826040"/>
                <a:ext cx="1711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spe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521160" y="14960880"/>
                <a:ext cx="159876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hanc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O.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654720" y="16549920"/>
                <a:ext cx="1708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Domain-Speci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Wea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1780360" y="9615600"/>
              <a:ext cx="1319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TECHNICAL APPROACH: DOMAIN-SPECIFIC WEAV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91640" y="10609200"/>
              <a:ext cx="11661840" cy="3538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Constraint Wea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solution that isolates the constraints as a separate area of concern will improve the manageability of our model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can be accomplished with a constraint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put to the domain-specific constraint weaver consists of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538280" indent="-258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XML representation of the model, as exported from the GME. This model is most likely void of any constrain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538280" indent="-258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set of specification aspects provided by the modeler. These are used to specify the locations in the model where constraints are to be added by strateg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utput of the weaving process is a new description of the model in XML that contains new constraints that have been integrated throughout the model by the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55480" y="10607760"/>
              <a:ext cx="12918960" cy="3538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ow Constraints are Wea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aspects describe specific points in the model where a strategy is to be applied. This ability to quantify over the model space is similar to a pointcut descriptor in AspectJ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domain-specific rules for specifying elements of computation, propagation, or application of specific properties to the model nod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generic in the sense that they are not bound to specific nodes in the mod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use constraints are modularized apart from the models, different sets of specification aspects can be weaved into the same model for experimental “what if” scenari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use much of the redundancy of constraint application is removed, the effect of each constraint on the global system can be better understood. This localization of constraints improves modular reason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7831680" y="14206680"/>
              <a:ext cx="11738160" cy="3247920"/>
              <a:chOff x="37831680" y="14206680"/>
              <a:chExt cx="11738160" cy="3247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831680" y="14206680"/>
                <a:ext cx="2232000" cy="2359080"/>
                <a:chOff x="37831680" y="14206680"/>
                <a:chExt cx="2232000" cy="235908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8991600" y="14206680"/>
                  <a:ext cx="195480" cy="49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50960" y="14662080"/>
                  <a:ext cx="604800" cy="55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935000" y="15695640"/>
                  <a:ext cx="47916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8260440" y="15113160"/>
                  <a:ext cx="380880" cy="62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836440" y="15117840"/>
                  <a:ext cx="63720" cy="66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098520" y="15075000"/>
                  <a:ext cx="507960" cy="77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8680920" y="15773400"/>
                  <a:ext cx="47952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400200" y="15697080"/>
                  <a:ext cx="47772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930400" y="15894000"/>
                  <a:ext cx="63360" cy="66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37831680" y="15773400"/>
                  <a:ext cx="380880" cy="62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55720" y="15792480"/>
                  <a:ext cx="507960" cy="77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1757480" y="14617800"/>
                <a:ext cx="2903760" cy="198936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9999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359640" y="16795800"/>
                <a:ext cx="4210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 Aspe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</a:t>
                </a: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r a specific model ins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877760" y="17022960"/>
                <a:ext cx="22636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odel ins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457600" y="17000640"/>
                <a:ext cx="35989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rategies for a specific do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299160" y="15055920"/>
                <a:ext cx="4079880" cy="1157400"/>
              </a:xfrm>
              <a:prstGeom prst="rect">
                <a:avLst/>
              </a:prstGeom>
              <a:solidFill>
                <a:srgbClr val="ccecff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64080" bIns="6408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lect(p | p.name() == “Model*” &amp;&amp;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.kind() == “StateFlow”)-&gt;Strategy3()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967000" y="14878080"/>
                <a:ext cx="11052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279920" y="14732280"/>
                <a:ext cx="1355760" cy="18428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64080" bIns="6408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986080" y="15316560"/>
                <a:ext cx="11052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005160" y="15754680"/>
                <a:ext cx="1104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005160" y="16211880"/>
                <a:ext cx="110484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4272080" y="15487920"/>
                <a:ext cx="1105200" cy="266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0309560" y="15792480"/>
                <a:ext cx="1638360" cy="895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9776040" y="14249520"/>
                <a:ext cx="2171880" cy="1524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9128760" y="14954400"/>
                <a:ext cx="2838240" cy="838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38925360" y="14714640"/>
            <a:ext cx="203400" cy="247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633040" y="14916240"/>
            <a:ext cx="376200" cy="401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974680" y="14922360"/>
            <a:ext cx="85680" cy="459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089160" y="14879520"/>
            <a:ext cx="117360" cy="460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1283280" y="17992800"/>
            <a:ext cx="18897120" cy="6653160"/>
            <a:chOff x="31283280" y="17992800"/>
            <a:chExt cx="18897120" cy="6653160"/>
          </a:xfrm>
        </p:grpSpPr>
        <p:sp>
          <p:nvSpPr>
            <p:cNvPr id="189" name=""/>
            <p:cNvSpPr/>
            <p:nvPr/>
          </p:nvSpPr>
          <p:spPr>
            <a:xfrm>
              <a:off x="31454280" y="18608760"/>
              <a:ext cx="18726120" cy="603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83280" y="17992800"/>
              <a:ext cx="8430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EXAMPLE: PROCESSOR ASSIGNMEN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0"/>
            <a:stretch/>
          </p:blipFill>
          <p:spPr>
            <a:xfrm>
              <a:off x="39173760" y="18770760"/>
              <a:ext cx="3769200" cy="27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1"/>
            <a:stretch/>
          </p:blipFill>
          <p:spPr>
            <a:xfrm>
              <a:off x="39224520" y="21672720"/>
              <a:ext cx="3650040" cy="27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4190360" y="18846720"/>
              <a:ext cx="5863320" cy="559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ApplyConstraint(constraintName : string, expression : string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ddAtom("OCLConstraint", "Constraint", constraintName).addAttribute("Expression", expression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br>
                <a:rPr sz="1000"/>
              </a:b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Assign(limit : int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static int accumulateWCET = 0; static int processNum = 1; int currentWCET;  &gt;&gt; 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findAtom("compute").findAttributeNode("WCET").getInt(currentWCET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accumulateWCET = accumulateWCET + currentWCET; &gt;&gt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if (limit &lt; accumulateWCET) then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&lt;&lt;accumulateWCET = currentWCET; processNum++; &gt;&gt;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ReportNewProcessor(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endif;  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CComBSTR aConstraint = "self.assignTo() = processor" + XMLParser::itos(processNum); &gt;&gt;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pplyConstraint("ProcessConstraint", aConstraint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br>
                <a:rPr sz="1000"/>
              </a:b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ProcessorAssignment(limit : int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models("Component")-&gt;forAll(Assign(limit)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2097600" y="21390120"/>
              <a:ext cx="6351120" cy="3058560"/>
              <a:chOff x="32097600" y="21390120"/>
              <a:chExt cx="6351120" cy="3058560"/>
            </a:xfrm>
          </p:grpSpPr>
          <p:sp>
            <p:nvSpPr>
              <p:cNvPr id="195" name=""/>
              <p:cNvSpPr/>
              <p:nvPr/>
            </p:nvSpPr>
            <p:spPr>
              <a:xfrm>
                <a:off x="35293320" y="23991840"/>
                <a:ext cx="126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CET=150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2097600" y="21390120"/>
                <a:ext cx="6351120" cy="2675880"/>
                <a:chOff x="32097600" y="21390120"/>
                <a:chExt cx="6351120" cy="2675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7120680" y="21871080"/>
                  <a:ext cx="132804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tency &lt; 20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291680" y="22121640"/>
                  <a:ext cx="793800" cy="5490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339200" y="22194720"/>
                  <a:ext cx="700920" cy="437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5f5f5f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385280" y="22231440"/>
                  <a:ext cx="61812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2763600" y="22267800"/>
                  <a:ext cx="467280" cy="1458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32996520" y="22084920"/>
                  <a:ext cx="0" cy="51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2669280" y="21390120"/>
                  <a:ext cx="669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ens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276600" y="22340880"/>
                  <a:ext cx="653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33370560" y="23393160"/>
                  <a:ext cx="1727280" cy="548640"/>
                  <a:chOff x="33370560" y="23393160"/>
                  <a:chExt cx="1727280" cy="5486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>
                    <a:off x="33463080" y="23393160"/>
                    <a:ext cx="420120" cy="256320"/>
                  </a:xfrm>
                  <a:prstGeom prst="parallelogram">
                    <a:avLst>
                      <a:gd name="adj" fmla="val 40976"/>
                    </a:avLst>
                  </a:prstGeom>
                  <a:solidFill>
                    <a:srgbClr val="3366ff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3463800" y="23685840"/>
                    <a:ext cx="420120" cy="255960"/>
                  </a:xfrm>
                  <a:prstGeom prst="parallelogram">
                    <a:avLst>
                      <a:gd name="adj" fmla="val 41034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3370560" y="23539320"/>
                    <a:ext cx="1727280" cy="25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34267320" y="22678920"/>
                  <a:ext cx="0" cy="77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611920" y="21939120"/>
                  <a:ext cx="706680" cy="5475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pd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502040" y="22340880"/>
                  <a:ext cx="10141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5564400" y="22647240"/>
                  <a:ext cx="757080" cy="43920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66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844840" y="22487040"/>
                  <a:ext cx="280440" cy="25668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072560" y="22075560"/>
                  <a:ext cx="358200" cy="5126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Σ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5294760" y="23242680"/>
                  <a:ext cx="1446840" cy="71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647920" y="23401440"/>
                  <a:ext cx="559440" cy="3279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844840" y="23474160"/>
                  <a:ext cx="467640" cy="328320"/>
                </a:xfrm>
                <a:prstGeom prst="rect">
                  <a:avLst/>
                </a:prstGeom>
                <a:noFill/>
                <a:ln w="381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36031680" y="23108760"/>
                  <a:ext cx="0" cy="364680"/>
                </a:xfrm>
                <a:prstGeom prst="line">
                  <a:avLst/>
                </a:prstGeom>
                <a:ln w="57240">
                  <a:solidFill>
                    <a:srgbClr val="99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468840" y="22136040"/>
                  <a:ext cx="13932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4610040" y="2236464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603480" y="2281716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6358200" y="22340880"/>
                  <a:ext cx="8398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348200" y="22707360"/>
                  <a:ext cx="738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spl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6451800" y="21902760"/>
                  <a:ext cx="61812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>
                  <a:off x="36451800" y="2237904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37666080" y="22379040"/>
                  <a:ext cx="93240" cy="72360"/>
                  <a:chOff x="37666080" y="22379040"/>
                  <a:chExt cx="93240" cy="723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7712520" y="22379040"/>
                    <a:ext cx="0" cy="72360"/>
                  </a:xfrm>
                  <a:prstGeom prst="line">
                    <a:avLst/>
                  </a:prstGeom>
                  <a:ln w="381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7666080" y="22415040"/>
                    <a:ext cx="93240" cy="0"/>
                  </a:xfrm>
                  <a:prstGeom prst="line">
                    <a:avLst/>
                  </a:prstGeom>
                  <a:ln w="381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32669640" y="21642480"/>
                  <a:ext cx="700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00 H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3810120" y="21678840"/>
                  <a:ext cx="1172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10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7234800" y="21642480"/>
                  <a:ext cx="108108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1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2097600" y="23507640"/>
                  <a:ext cx="1244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tency &lt; 5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897880" y="22328280"/>
                  <a:ext cx="326520" cy="7236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810840" y="23814000"/>
                  <a:ext cx="10810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2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408520" y="21528000"/>
                  <a:ext cx="1082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4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33582600" y="24105960"/>
                <a:ext cx="13615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eapon Rele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1798080" y="18780120"/>
              <a:ext cx="6719040" cy="2508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iven 5 components for a weapons deployment system, this example demonstrates the weaving of constraints that represent the processor assignment for each component. The strategy is based upon the worst-case execution time (WCET) for each compone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5817680" y="3335400"/>
            <a:ext cx="34377480" cy="5719680"/>
            <a:chOff x="15817680" y="3335400"/>
            <a:chExt cx="34377480" cy="5719680"/>
          </a:xfrm>
        </p:grpSpPr>
        <p:sp>
          <p:nvSpPr>
            <p:cNvPr id="239" name=""/>
            <p:cNvSpPr/>
            <p:nvPr/>
          </p:nvSpPr>
          <p:spPr>
            <a:xfrm>
              <a:off x="16940160" y="3956040"/>
              <a:ext cx="33255000" cy="50990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817680" y="3335400"/>
              <a:ext cx="12112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BACKGROUND:  DOMAIN-SPECIFIC MODELING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5"/>
            <a:stretch/>
          </p:blipFill>
          <p:spPr>
            <a:xfrm>
              <a:off x="43899120" y="4518000"/>
              <a:ext cx="4905360" cy="40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7808480" y="4481640"/>
              <a:ext cx="7566120" cy="3789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 Characteristics of 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amodeling is used to define a domain modeling language and the constraints within that domai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om the metamodel, a modeling environment is created for a specific domai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ain experts work within the generated environment to create specific instances of domain model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ain models can then be interpreted. This can result in an analysis of a model, or even synthesis into an applica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45520" y="4448160"/>
              <a:ext cx="7940880" cy="419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Modeling Environment (GM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endable/modular component-based architecture that supports 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ists of a metaprogrammable graphical editor, a model constraint checker, and metamodeling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ey featur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e inheri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persistence (bi-directional XML, datab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API through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in numerous industrial domai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otive, avionics, electrical utilities, digital signal processing, chemical pl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7132120" y="4425840"/>
              <a:ext cx="5425920" cy="4184640"/>
              <a:chOff x="27132120" y="4425840"/>
              <a:chExt cx="5425920" cy="41846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7132120" y="5173560"/>
                <a:ext cx="5425920" cy="3436920"/>
                <a:chOff x="27132120" y="5173560"/>
                <a:chExt cx="5425920" cy="3436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132120" y="5184720"/>
                  <a:ext cx="1720800" cy="11034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0880080" y="7040520"/>
                  <a:ext cx="1426680" cy="733320"/>
                  <a:chOff x="30880080" y="7040520"/>
                  <a:chExt cx="1426680" cy="7333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0946320" y="7040520"/>
                    <a:ext cx="136044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0913920" y="7075440"/>
                    <a:ext cx="135900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0880080" y="7107120"/>
                    <a:ext cx="136080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Interpret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29148120" y="6289560"/>
                  <a:ext cx="1467000" cy="2190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9089440" y="6356160"/>
                  <a:ext cx="1465200" cy="21891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028960" y="6421320"/>
                  <a:ext cx="1467000" cy="21891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29176560" y="8049960"/>
                  <a:ext cx="1269720" cy="442800"/>
                  <a:chOff x="29176560" y="8049960"/>
                  <a:chExt cx="1269720" cy="442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29284920" y="8049960"/>
                    <a:ext cx="116136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9237040" y="8098200"/>
                    <a:ext cx="116172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9176560" y="8146080"/>
                    <a:ext cx="116172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 Interpreter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9176560" y="7468920"/>
                  <a:ext cx="1269720" cy="439560"/>
                  <a:chOff x="29176560" y="7468920"/>
                  <a:chExt cx="1269720" cy="439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9284920" y="7468920"/>
                    <a:ext cx="116136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9237040" y="7516800"/>
                    <a:ext cx="116172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176560" y="7564320"/>
                    <a:ext cx="116172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 flipH="1">
                  <a:off x="29590920" y="7269120"/>
                  <a:ext cx="6192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768760" y="7269120"/>
                  <a:ext cx="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887920" y="7269120"/>
                  <a:ext cx="44280" cy="19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28960" y="6395760"/>
                  <a:ext cx="14670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deling Environ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30418200" y="7668720"/>
                  <a:ext cx="622080" cy="55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30418200" y="7526160"/>
                  <a:ext cx="49536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43640" y="5173560"/>
                  <a:ext cx="1697040" cy="11066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0665880" y="5238720"/>
                  <a:ext cx="1892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ma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841920" y="5778360"/>
                  <a:ext cx="34776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1421520" y="5778360"/>
                  <a:ext cx="34740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010480" y="5778360"/>
                  <a:ext cx="34452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1189680" y="6038640"/>
                  <a:ext cx="23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768920" y="6038640"/>
                  <a:ext cx="23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773600" y="5887800"/>
                  <a:ext cx="23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31189680" y="5887800"/>
                  <a:ext cx="23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31012920" y="6165360"/>
                  <a:ext cx="435240" cy="88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1589640" y="6149520"/>
                  <a:ext cx="0" cy="88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31754880" y="6149880"/>
                  <a:ext cx="434880" cy="90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794320" y="5413320"/>
                  <a:ext cx="1041480" cy="2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3366"/>
                      </a:solidFill>
                      <a:latin typeface="Arial"/>
                    </a:rPr>
                    <a:t>Application Evolu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824120" y="5418000"/>
                  <a:ext cx="1043280" cy="2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3366"/>
                      </a:solidFill>
                      <a:latin typeface="Arial"/>
                    </a:rPr>
                    <a:t>Environment Evolu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30330360" y="5757840"/>
                  <a:ext cx="412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8852560" y="5757840"/>
                  <a:ext cx="531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330720" y="5757840"/>
                  <a:ext cx="0" cy="539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384640" y="5757840"/>
                  <a:ext cx="0" cy="53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7385920" y="7027920"/>
                  <a:ext cx="1243080" cy="709560"/>
                </a:xfrm>
                <a:prstGeom prst="ellipse">
                  <a:avLst/>
                </a:prstGeom>
                <a:solidFill>
                  <a:srgbClr val="28289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eta-Le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Trans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28602000" y="7083360"/>
                  <a:ext cx="541440" cy="1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8513080" y="7589160"/>
                  <a:ext cx="636480" cy="525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68480" y="5197320"/>
                  <a:ext cx="1658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taprogramm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terf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27252720" y="5707080"/>
                  <a:ext cx="1496880" cy="439560"/>
                  <a:chOff x="27252720" y="5707080"/>
                  <a:chExt cx="1496880" cy="4395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7379800" y="5707080"/>
                    <a:ext cx="136980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7324000" y="5754600"/>
                    <a:ext cx="136836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7252720" y="5802120"/>
                    <a:ext cx="136980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Formal Specificatio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28009800" y="6297480"/>
                  <a:ext cx="0" cy="71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237040" y="6914880"/>
                  <a:ext cx="1149480" cy="3445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2880" rIns="182880" tIns="91440" bIns="9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 Buil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28090080" y="4425840"/>
                <a:ext cx="369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odel Integrated Computing (MI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1T00:09:43Z</dcterms:created>
  <dc:creator>pgroup</dc:creator>
  <dc:description/>
  <dc:language>en-US</dc:language>
  <cp:lastModifiedBy>Jeff Gray</cp:lastModifiedBy>
  <cp:lastPrinted>2000-04-24T21:40:14Z</cp:lastPrinted>
  <dcterms:modified xsi:type="dcterms:W3CDTF">2001-10-10T15:06:05Z</dcterms:modified>
  <cp:revision>544</cp:revision>
  <dc:subject/>
  <dc:title>No Slide Title</dc:title>
</cp:coreProperties>
</file>